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5163-A987-439E-917F-47464144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D3A5-4A77-4B16-BFA1-0C1A64A9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AC75-520C-4FA6-8FC1-FD6C0078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95E4-C793-4F9F-A287-FA5C0211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6C13-951F-4F71-97BD-3540E348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D483-D099-40FE-B4B7-3917BD5F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BA53-A981-4248-BE2A-0410AE37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CA5B-FB0B-4BBE-B816-78A6E32C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5145-6A3B-483C-B893-6EE5E2AD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D602-498D-4299-9104-6A6F6317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9AD3-453F-434C-9207-D78C64DF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591F-4203-4E36-AB9E-B7F6EE0A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8A21-F5CC-4CEA-A596-42003604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ABA2-65E1-42F8-AC5E-719917D9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CB37-150F-4812-AC9E-0A542061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91AF-D942-402A-838B-371E7D35B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74C6-B70E-407C-8C39-A9E264F8F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C884-23F7-4C20-A9E4-414CC57A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3D78-7271-4D76-B7FE-05657293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A038-BC27-417C-8204-15A95229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E45B-9552-4D96-81D0-2B5A39A4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013F-580F-4C6A-928B-B37EFDD8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66F4-E877-4B6C-9BAF-745270B9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506E-FCA6-44A6-98FA-D6CFA5CC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60960" indent="-254160">
              <a:spcBef>
                <a:spcPts val="799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17000" indent="-203400">
              <a:spcBef>
                <a:spcPts val="799"/>
              </a:spcBef>
              <a:buClr>
                <a:srgbClr val="8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830960" indent="-203400">
              <a:spcBef>
                <a:spcPts val="799"/>
              </a:spcBef>
              <a:buClr>
                <a:srgbClr val="808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FEFA-5A28-46AE-92A5-21C7C35C3288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A95F-07EF-4D31-98EA-FE15A6FF91BC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Fungi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Fungi are largely multicellular.  They 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heterotrophic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ake food rot, for instance.  The fungus is secreting chemicals (called enzymes) onto the nectarines or meat.  The enzymes break down the target’s cells, and the mold absorbs the “mush.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Fungal Diversity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ungi includ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hytrid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Zygomycot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"/>
          <p:cNvSpPr/>
          <p:nvPr/>
        </p:nvSpPr>
        <p:spPr>
          <a:xfrm>
            <a:off x="7757640" y="347652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Fungal Diversity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ungi includ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asidiomycot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scomycot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Plantae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Plants are largely multicellular.  They are autotrophic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y use the energy from sunlight to turn carbon dioxide and water into glucose (sugar)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ol fact: A tree starts out as a small seed, and by the end of its life, it is a huge organism.  Where did all the atoms that make the tree come from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Plantae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lant Diversit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ome alga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ryophytes (liverworts, hornworts, mosses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Plantae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lant Diversit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teridophytes (club mosses, fern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ycads, Ginkg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Plantae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lant Diversit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if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gnoliophytes (flowering plant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Animalia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Animals are multicellular and heterotrophic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remainder of the classification unit will be learning about the major phyla of Animalia, and the major classes of the animal phylum Chordata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00804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You will see a lot of animal diversity in the coming week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rebuchet MS"/>
              </a:rPr>
              <a:t>Cell Walls</a:t>
            </a:r>
            <a:endParaRPr b="0" i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Plants and Fungi have cell wall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4080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Animals and Protists don’t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2:44:09Z</dcterms:created>
  <dc:creator>Rebecca Stang</dc:creator>
  <dc:description/>
  <dc:language>en-US</dc:language>
  <cp:lastModifiedBy>Rebecca Stang</cp:lastModifiedBy>
  <dcterms:modified xsi:type="dcterms:W3CDTF">2010-03-28T16:43:37Z</dcterms:modified>
  <cp:revision>72</cp:revision>
  <dc:subject/>
  <dc:title>Domains &amp; Kingdoms</dc:title>
</cp:coreProperties>
</file>